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DDD-6B2D-4BFD-9C94-11531296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CB5-CD97-418C-ABAC-9F42A7F2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0A8-3FF8-46A9-9151-CC9ABB4A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93F-4E24-4FAA-BD17-9685FD91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CCF-06FA-4839-8899-F1865477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6409-8891-419D-B864-A8A0F27D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0C41-1C08-4907-BB73-EEAB3ED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B24F-E2BE-42B5-BBAC-81791F72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B73E-420E-4E9B-BBA4-F642A9A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83BE-B170-43E7-95A4-0F1E24D8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EE02-6A85-41CF-8AAE-7DDD458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2B4-0C77-40EF-BAFB-AE73785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4C5C-D75C-41C0-9AC4-07C470B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B540-3028-4447-9E3C-0789986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810D-F8E7-4B22-81C5-AB1BEED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2D35-271E-49B9-B318-0506D73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F2E9-60B8-43A8-806F-57CDC176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C15-E5F7-4341-9CA9-7AB44E4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155-C446-4391-BF14-E0F121F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EF4-6B09-4447-9BD7-864A20FE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F39-19D3-4D5F-B801-FFA54083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349-81CD-4488-A75D-A6CF1C8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642-0902-4C9A-A937-AD21664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D2C-4D58-419D-85A9-C3FB4C7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BCF-C6F3-43E8-9767-93211EB6758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7FA-0DC4-4CF4-B153-2545DBEAEAB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201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479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r. Hamill, Con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r. Stevens, Kar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7" descr="http://www.moonbattery.com/archives/Muslims-riot-France.jpg"/>
          <p:cNvPicPr/>
          <p:nvPr/>
        </p:nvPicPr>
        <p:blipFill>
          <a:blip r:embed="rId3"/>
          <a:stretch/>
        </p:blipFill>
        <p:spPr>
          <a:xfrm>
            <a:off x="2286000" y="1905120"/>
            <a:ext cx="42861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fore community is looked down 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there was a sense of pride within communit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cial tension prevail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rruption in police fo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verty was igno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cial tension prevail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harles D. Lowery, John F. Marszalek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Greenwood Enctclopedia of African Civil Rights Vol. 1 First Edition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Westport: Greenwood Press, 2003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llection, Walter J. Brown Media Archives &amp; Peabody Awards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atts Riots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2 6 2010 &lt;http://crdl.usg.edu/events/watts_riots/?Welcome&amp;Welcome&gt;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Geroge Church, Sylvesyer Monroe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Fire This Time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11 5 1992. 2 6 2010 &lt;http://www.time.com/time/magazine/article/0,9171,975498,00.html&gt;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Johnson, Michael P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ding the American Past Vol 2. Third Edition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Boston: Bedford/St. Martin's, 2005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asmussen, Katie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1965 Watts Riots 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6 6 2010 &lt;http://ktkat1717.tripod.com/id6.html&gt;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illiams, Micheal W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African American Encyclopedia Vol.1 Second Edition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Marshall Cavendish Corporation, 2001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are  and contrast the 1992 LA riots to the Watts neighborhood riots of 1965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are they similar in cause and outcom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do they reflect their time period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- Poor, jobless, urban res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-Rio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ooting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s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r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- South Central Los Ange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-April 29, 1992 – May 4, 199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- Rodney King Powder Ke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6840" y="38858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http://www.youtube.com/watch?v=tgiR04ey7-M&amp;feature=relatedchoas news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http://www.youtube.com/user/Gerrit1231#p/u/3/xTT4GY3AWsw riots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http://www.youtube.com/watch?v=ROn_9302UHg beating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1143000" y="1828800"/>
            <a:ext cx="3505320" cy="3065760"/>
            <a:chOff x="1143000" y="1828800"/>
            <a:chExt cx="3505320" cy="3065760"/>
          </a:xfrm>
        </p:grpSpPr>
        <p:pic>
          <p:nvPicPr>
            <p:cNvPr id="92" name="Picture 5" descr="http://iwanticewater.files.wordpress.com/2009/07/rodney-king.jpg"/>
            <p:cNvPicPr/>
            <p:nvPr/>
          </p:nvPicPr>
          <p:blipFill>
            <a:blip r:embed="rId3"/>
            <a:stretch/>
          </p:blipFill>
          <p:spPr>
            <a:xfrm>
              <a:off x="1447560" y="1828800"/>
              <a:ext cx="27068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6"/>
            <p:cNvSpPr/>
            <p:nvPr/>
          </p:nvSpPr>
          <p:spPr>
            <a:xfrm>
              <a:off x="1143000" y="4648320"/>
              <a:ext cx="350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iwanticewater.files.wordpress.com/2009/0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4800600" y="1828800"/>
            <a:ext cx="3048120" cy="2989800"/>
            <a:chOff x="4800600" y="1828800"/>
            <a:chExt cx="3048120" cy="2989800"/>
          </a:xfrm>
        </p:grpSpPr>
        <p:pic>
          <p:nvPicPr>
            <p:cNvPr id="95" name="Picture 7" descr="http://i.dailymail.co.uk/i/pix/2009/07/09/article-1198484-00C69A0600000190-84_468x422.jpg"/>
            <p:cNvPicPr/>
            <p:nvPr/>
          </p:nvPicPr>
          <p:blipFill>
            <a:blip r:embed="rId4"/>
            <a:stretch/>
          </p:blipFill>
          <p:spPr>
            <a:xfrm>
              <a:off x="4800600" y="1828800"/>
              <a:ext cx="3048120" cy="27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9"/>
            <p:cNvSpPr/>
            <p:nvPr/>
          </p:nvSpPr>
          <p:spPr>
            <a:xfrm>
              <a:off x="5029200" y="4572360"/>
              <a:ext cx="259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i.dailymail.co.uk/i/pix/2009/07/09/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291960" y="268200"/>
            <a:ext cx="866304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- Poor, jobless, urban res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-Rio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niper Fi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s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r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 – Watts neighborhood Los Angel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ifor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– August 11, 1965 – August 15, 196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– Immediate reaction to interracial polic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uta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55627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ttp://www.youtube.com/watch?v=BbElAfALWb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4572000" y="1447920"/>
            <a:ext cx="3429000" cy="3370680"/>
            <a:chOff x="4572000" y="1447920"/>
            <a:chExt cx="3429000" cy="3370680"/>
          </a:xfrm>
        </p:grpSpPr>
        <p:pic>
          <p:nvPicPr>
            <p:cNvPr id="102" name="Picture 5" descr="http://1.bp.blogspot.com/_H58kU2Adzk4/SPddsi5dfnI/AAAAAAAACBQ/SvC_Xu8DvM0/s400/watts.jpg"/>
            <p:cNvPicPr/>
            <p:nvPr/>
          </p:nvPicPr>
          <p:blipFill>
            <a:blip r:embed="rId3"/>
            <a:stretch/>
          </p:blipFill>
          <p:spPr>
            <a:xfrm>
              <a:off x="4724280" y="1447920"/>
              <a:ext cx="316260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6"/>
            <p:cNvSpPr/>
            <p:nvPr/>
          </p:nvSpPr>
          <p:spPr>
            <a:xfrm>
              <a:off x="4572000" y="4572360"/>
              <a:ext cx="342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1.bp.blogspot.com/_H58kU2Adzk4/SPddsi5dfnI/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685800" y="1523880"/>
            <a:ext cx="3505320" cy="3218400"/>
            <a:chOff x="685800" y="1523880"/>
            <a:chExt cx="3505320" cy="3218400"/>
          </a:xfrm>
        </p:grpSpPr>
        <p:pic>
          <p:nvPicPr>
            <p:cNvPr id="105" name="Picture 7" descr="http://amciv.files.wordpress.com/2009/04/103rdstreet_watts_riot_1965.jpg"/>
            <p:cNvPicPr/>
            <p:nvPr/>
          </p:nvPicPr>
          <p:blipFill>
            <a:blip r:embed="rId4"/>
            <a:stretch/>
          </p:blipFill>
          <p:spPr>
            <a:xfrm>
              <a:off x="761760" y="1523880"/>
              <a:ext cx="3309480" cy="29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9"/>
            <p:cNvSpPr/>
            <p:nvPr/>
          </p:nvSpPr>
          <p:spPr>
            <a:xfrm>
              <a:off x="685800" y="4496040"/>
              <a:ext cx="350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amciv.files.wordpress.com/2009/04/103rdstree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4 De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1,000 inju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40 million in los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,000 buildings destr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4,000 Nat Guard depl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4,000 arres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3 De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2,000 inju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800 mil to $1 bill in los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,600 fi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,100 building destr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,000+ Nat Guard depl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nsion in Watts community and LAP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rked by mistreatment and arrest of indiv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even spread of wealth an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vious instances of police bruta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rked by unfair verdict in King ca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even spread of wealth an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ir housing 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rner Commis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ptoms are treated but the problems rema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sk to Dawn curf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ptoms are treated but the problems rema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ck of trust in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lice officers fired (Rodney King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9:09:24Z</dcterms:created>
  <dc:creator>Administrator</dc:creator>
  <dc:description/>
  <dc:language>en-US</dc:language>
  <cp:lastModifiedBy>20554</cp:lastModifiedBy>
  <dcterms:modified xsi:type="dcterms:W3CDTF">2010-06-10T11:52:18Z</dcterms:modified>
  <cp:revision>39</cp:revision>
  <dc:subject/>
  <dc:title>Slide 1</dc:title>
</cp:coreProperties>
</file>